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252E-CD55-42F8-9601-CED41C31D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CC7C-2A52-44D9-ACF9-76B9A10C4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A580-7A82-44B1-BB9E-0E6E9DA42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959A-01D6-4E76-B9C5-5AC65A837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D28A-5C8B-4D6A-BB0A-C1EF481D9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5D7D-A76A-402C-BE2D-AC80F9343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0B93-C9EB-468E-8E7B-4CF64CAFC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1A5F-EF40-45FA-AF19-18A291FA5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4BAB-1F4C-43EB-8C2D-423C9C0B4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C71D-D8E5-41B1-8E26-6F4A307FF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5878-3853-4AD8-87E9-5E53413C7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3F60-D4AB-451F-A609-817A21E06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DD1B3-3D67-4688-A223-E4063D6481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o Am I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Your name here Dakota Mast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ic Fa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was born on Feb.22,1732 and died on December,14,179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du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attended  school as a chil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attended ____________________ college/university when I was old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complish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y greatest accomplishment, or what I was mostly known for is ________________________________________________________________________________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nother important accomplishment was ________________________________________________________________________________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 third important accomplishment was ________________________________________________________________________________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 AM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am ____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ert picture he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4T18:54:38Z</dcterms:created>
  <dc:creator> </dc:creator>
  <dc:description/>
  <dc:language>en-US</dc:language>
  <cp:lastModifiedBy> </cp:lastModifiedBy>
  <dcterms:modified xsi:type="dcterms:W3CDTF">2009-02-05T18:14:03Z</dcterms:modified>
  <cp:revision>9</cp:revision>
  <dc:subject/>
  <dc:title>Who Am I?</dc:title>
</cp:coreProperties>
</file>